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165-9F13-4D83-8504-C958C447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492B-BB3B-4F9D-900F-EFD9A434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248D-7A79-4E6B-BE10-E6D3FA1B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B0D7-DBC1-44B7-9BEE-4923D327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62C-32A1-48E4-A8D3-AE037BFC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F8E2-7955-4574-9004-380172AA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2D0-00B4-4C39-8CC1-85665EE3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D8A-BB1C-4AED-9B6B-B32A5C92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5C51-F80D-49BC-BBB1-0DB63C48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898-FA50-4B42-A9D1-458B603A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FAE-35CF-46BC-A95B-39126114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D23A-E492-475E-A487-3C085830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EBF8-769D-45CD-9D77-15098D317A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24000" y="5157720"/>
            <a:ext cx="3456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33"/>
                </a:solidFill>
                <a:latin typeface="Monotype Corsiva"/>
              </a:rPr>
              <a:t>Обобщ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476280"/>
            <a:ext cx="619272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исл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3000" y="3068640"/>
            <a:ext cx="239076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3300"/>
                </a:solidFill>
                <a:uFillTx/>
                <a:latin typeface="Arial"/>
              </a:rPr>
              <a:t>Кислоты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-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электролиты,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и диссоциации которых образуются катионы водорода и анионы кислотных остатков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       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CL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3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7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06728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54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24360" y="5589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Классификация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048760" y="1524960"/>
            <a:ext cx="4902120" cy="4119480"/>
            <a:chOff x="2048760" y="1524960"/>
            <a:chExt cx="4902120" cy="4119480"/>
          </a:xfrm>
        </p:grpSpPr>
        <p:cxnSp>
          <p:nvCxnSpPr>
            <p:cNvPr id="51" name="_s13346"/>
            <p:cNvCxnSpPr>
              <a:stCxn id="52" idx="1"/>
              <a:endCxn id="53" idx="2"/>
            </p:cNvCxnSpPr>
            <p:nvPr/>
          </p:nvCxnSpPr>
          <p:spPr>
            <a:xfrm rot="10800000">
              <a:off x="3061440" y="2050200"/>
              <a:ext cx="110160" cy="345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3344"/>
            <p:cNvCxnSpPr>
              <a:stCxn id="55" idx="1"/>
              <a:endCxn id="53" idx="2"/>
            </p:cNvCxnSpPr>
            <p:nvPr/>
          </p:nvCxnSpPr>
          <p:spPr>
            <a:xfrm rot="10800000">
              <a:off x="3061440" y="2050200"/>
              <a:ext cx="110160" cy="312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3342"/>
            <p:cNvCxnSpPr>
              <a:stCxn id="57" idx="1"/>
              <a:endCxn id="53" idx="2"/>
            </p:cNvCxnSpPr>
            <p:nvPr/>
          </p:nvCxnSpPr>
          <p:spPr>
            <a:xfrm rot="10800000">
              <a:off x="3061440" y="2050200"/>
              <a:ext cx="110160" cy="280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3340"/>
            <p:cNvCxnSpPr>
              <a:stCxn id="59" idx="1"/>
              <a:endCxn id="53" idx="2"/>
            </p:cNvCxnSpPr>
            <p:nvPr/>
          </p:nvCxnSpPr>
          <p:spPr>
            <a:xfrm rot="10800000">
              <a:off x="3061440" y="2050200"/>
              <a:ext cx="110160" cy="247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3338"/>
            <p:cNvCxnSpPr>
              <a:stCxn id="61" idx="1"/>
              <a:endCxn id="53" idx="2"/>
            </p:cNvCxnSpPr>
            <p:nvPr/>
          </p:nvCxnSpPr>
          <p:spPr>
            <a:xfrm rot="10800000">
              <a:off x="3061440" y="2050200"/>
              <a:ext cx="110160" cy="21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3336"/>
            <p:cNvCxnSpPr>
              <a:stCxn id="63" idx="1"/>
              <a:endCxn id="53" idx="2"/>
            </p:cNvCxnSpPr>
            <p:nvPr/>
          </p:nvCxnSpPr>
          <p:spPr>
            <a:xfrm rot="10800000">
              <a:off x="3061440" y="2050200"/>
              <a:ext cx="110160" cy="181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3334"/>
            <p:cNvCxnSpPr>
              <a:stCxn id="65" idx="1"/>
              <a:endCxn id="53" idx="2"/>
            </p:cNvCxnSpPr>
            <p:nvPr/>
          </p:nvCxnSpPr>
          <p:spPr>
            <a:xfrm rot="10800000">
              <a:off x="3061440" y="2050200"/>
              <a:ext cx="110160" cy="149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3332"/>
            <p:cNvCxnSpPr>
              <a:stCxn id="67" idx="1"/>
              <a:endCxn id="53" idx="2"/>
            </p:cNvCxnSpPr>
            <p:nvPr/>
          </p:nvCxnSpPr>
          <p:spPr>
            <a:xfrm rot="10800000">
              <a:off x="3061440" y="2050200"/>
              <a:ext cx="110160" cy="1167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3330"/>
            <p:cNvCxnSpPr>
              <a:stCxn id="69" idx="1"/>
              <a:endCxn id="53" idx="2"/>
            </p:cNvCxnSpPr>
            <p:nvPr/>
          </p:nvCxnSpPr>
          <p:spPr>
            <a:xfrm rot="10800000">
              <a:off x="3061440" y="2050200"/>
              <a:ext cx="110160" cy="84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3326"/>
            <p:cNvCxnSpPr>
              <a:stCxn id="71" idx="1"/>
              <a:endCxn id="53" idx="2"/>
            </p:cNvCxnSpPr>
            <p:nvPr/>
          </p:nvCxnSpPr>
          <p:spPr>
            <a:xfrm rot="10800000">
              <a:off x="3061440" y="2050200"/>
              <a:ext cx="110160" cy="51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3324"/>
            <p:cNvCxnSpPr>
              <a:stCxn id="73" idx="1"/>
              <a:endCxn id="53" idx="2"/>
            </p:cNvCxnSpPr>
            <p:nvPr/>
          </p:nvCxnSpPr>
          <p:spPr>
            <a:xfrm rot="10800000">
              <a:off x="3061440" y="2050200"/>
              <a:ext cx="110160" cy="18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13320"/>
            <p:cNvSpPr/>
            <p:nvPr/>
          </p:nvSpPr>
          <p:spPr>
            <a:xfrm>
              <a:off x="2048760" y="1524960"/>
              <a:ext cx="2028600" cy="525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КИСЛОТ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3321"/>
            <p:cNvSpPr/>
            <p:nvPr/>
          </p:nvSpPr>
          <p:spPr>
            <a:xfrm>
              <a:off x="3171240" y="2096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КИСЛОРОДНЫЕ 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3323"/>
            <p:cNvSpPr/>
            <p:nvPr/>
          </p:nvSpPr>
          <p:spPr>
            <a:xfrm>
              <a:off x="3171240" y="24228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БЕСКИСЛОРОД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B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3329"/>
            <p:cNvSpPr/>
            <p:nvPr/>
          </p:nvSpPr>
          <p:spPr>
            <a:xfrm>
              <a:off x="3171240" y="27496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ОДНООСНОВНЫЕ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3331"/>
            <p:cNvSpPr/>
            <p:nvPr/>
          </p:nvSpPr>
          <p:spPr>
            <a:xfrm>
              <a:off x="3171240" y="30762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ДВУХОСНОВНЫЕ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3333"/>
            <p:cNvSpPr/>
            <p:nvPr/>
          </p:nvSpPr>
          <p:spPr>
            <a:xfrm>
              <a:off x="3171240" y="34030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ТРЕХОСНОВ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3335"/>
            <p:cNvSpPr/>
            <p:nvPr/>
          </p:nvSpPr>
          <p:spPr>
            <a:xfrm>
              <a:off x="3171240" y="37296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ИЛЬ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3337"/>
            <p:cNvSpPr/>
            <p:nvPr/>
          </p:nvSpPr>
          <p:spPr>
            <a:xfrm>
              <a:off x="3171240" y="405648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" rIns="1152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ЛАБЫ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3339"/>
            <p:cNvSpPr/>
            <p:nvPr/>
          </p:nvSpPr>
          <p:spPr>
            <a:xfrm>
              <a:off x="3171240" y="43830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СТВОРИМЫЕ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3341"/>
            <p:cNvSpPr/>
            <p:nvPr/>
          </p:nvSpPr>
          <p:spPr>
            <a:xfrm>
              <a:off x="3171240" y="47098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120" rIns="1512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РАСТВОРИМЫЕ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3343"/>
            <p:cNvSpPr/>
            <p:nvPr/>
          </p:nvSpPr>
          <p:spPr>
            <a:xfrm>
              <a:off x="3171240" y="50364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ЛЕТУЧИЕ        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, 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3345"/>
            <p:cNvSpPr/>
            <p:nvPr/>
          </p:nvSpPr>
          <p:spPr>
            <a:xfrm>
              <a:off x="3171240" y="5363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ЛЕТУЧИ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Типичные реакции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снование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 NaOH 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ксид металла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 HCL = Cu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металл = водород + с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CL +Zn =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яду напряжений металл должен стоять до вод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результате реакции должна получиться растворим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соль = новая кислота + нов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езультате реакции должны получиться газ, ос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28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Формула кислоты 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aOH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uC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HCL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Лакмус в растворе, полученном при взаимодействии оксида серы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вод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синий                  в) фиолет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красный              г) малин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 раствором серной кислоты взаимодейству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оксид магния      в) оксид фосф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оксид углерода   г) с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оляная кислота не взаимодействует с металл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алюминием         в) сереб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железом              г)  цин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Пара ионов, которая может одновременно находится в раствор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в) 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г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Пара веществ взаимодействующих друг с друг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u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O  u N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) Н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 u  NaOH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6:46:13Z</dcterms:created>
  <dc:creator>Alex</dc:creator>
  <dc:description/>
  <dc:language>en-US</dc:language>
  <cp:lastModifiedBy>Alex</cp:lastModifiedBy>
  <dcterms:modified xsi:type="dcterms:W3CDTF">2003-12-19T09:46:27Z</dcterms:modified>
  <cp:revision>17</cp:revision>
  <dc:subject/>
  <dc:title>КИСЛОТЫ</dc:title>
</cp:coreProperties>
</file>